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19287"/>
        <c:axId val="19204652"/>
      </c:barChart>
      <c:catAx>
        <c:axId val="94919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04652"/>
        <c:crosses val="autoZero"/>
        <c:auto val="1"/>
        <c:lblAlgn val="ctr"/>
        <c:lblOffset val="100"/>
        <c:noMultiLvlLbl val="0"/>
      </c:catAx>
      <c:valAx>
        <c:axId val="19204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19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205-B055-4929-89EE-31F22FA3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54E-BB84-4744-B48F-EBB8840F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D58-1CEC-4BDF-ABD0-8A14A8B1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236-2071-40F9-BCBE-C06E24DE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088-4302-4401-B571-FCA39F9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B50-45C3-43CA-BB62-B18D67A7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019-D46A-44BF-8E9A-3A79DC98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102-5ACC-4979-8030-752D735B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8A3-C1AD-422C-BCB1-EFB405CB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146-9C5F-4892-908C-B7E3045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CF3-B209-42A8-B32D-7A517644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8D9-6D33-4058-82B1-4D6BC7D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24E1E-F8DA-4D14-ADEB-3186BF7BE8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