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228277"/>
        <c:axId val="18968988"/>
      </c:barChart>
      <c:catAx>
        <c:axId val="20228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68988"/>
        <c:crosses val="autoZero"/>
        <c:auto val="1"/>
        <c:lblAlgn val="ctr"/>
        <c:lblOffset val="100"/>
        <c:noMultiLvlLbl val="0"/>
      </c:catAx>
      <c:valAx>
        <c:axId val="189689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28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E76-5348-4FC3-9116-9F3A5631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28A8-A8DE-48A9-8324-5A6CEBB8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77A-7AF3-48F0-AAAE-2F419E928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151-DE3D-413F-AE74-BF67EB95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22C5-F357-4D3E-AAC7-A76D8EE2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F44-CD37-4DDE-8879-9F450D6A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D57-AA4E-4682-A01A-DD099AE4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F5D-12DA-493B-A2C8-BB05A598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5BD2-400E-43ED-88F1-B858D3D1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D633-94CF-44F7-AED4-2BCB369A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694-2F8D-4346-9C62-3AF9D0D4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47B-E328-4885-9D25-436BB77D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C0B82-A9F8-4283-9C71-16C4AE026C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