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5587"/>
        <c:axId val="36135871"/>
      </c:barChart>
      <c:catAx>
        <c:axId val="8475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35871"/>
        <c:crosses val="autoZero"/>
        <c:auto val="1"/>
        <c:lblAlgn val="ctr"/>
        <c:lblOffset val="100"/>
        <c:noMultiLvlLbl val="0"/>
      </c:catAx>
      <c:valAx>
        <c:axId val="36135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5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462-6CEF-4AAA-9DE4-DBCBBF57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19C-2C6A-4F5B-A41B-F53C738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56B-E8AC-4DC4-8344-2972140F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D44-59FC-4A0E-87E3-C389E211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AB2-1B7F-4360-8EFD-38E903E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C51-6990-456D-B5C7-40B28FA3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107-06C4-4621-9CC8-0BFE611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E1B-5E8D-454A-9103-D758CA63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319-0A61-4720-830C-9D40648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777-086D-424D-BCFF-CF49EF9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9FF-1FB6-4499-B9DB-7DCDA8F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355-ABA2-4249-8957-C9382F2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10135-779A-4DCA-B16A-B073A6E33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