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596827"/>
        <c:axId val="14189724"/>
      </c:barChart>
      <c:catAx>
        <c:axId val="925968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89724"/>
        <c:crosses val="autoZero"/>
        <c:auto val="1"/>
        <c:lblAlgn val="ctr"/>
        <c:lblOffset val="100"/>
        <c:noMultiLvlLbl val="0"/>
      </c:catAx>
      <c:valAx>
        <c:axId val="141897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968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BAC3-E1F6-433C-800B-8E648B355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3311-8D62-4772-B5E4-6FDC99FB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089F-EB34-4DF9-9270-881FA71B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C266-EEDF-4D0E-BCFD-D14377AE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EFFC-1C8B-4C23-A19C-4A2D9C4F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7393-295D-4692-9899-6C287E14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DCC0-3949-440B-B64A-2FAA6ACD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4F36-7F73-40C1-A9AD-6686C770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4CF6-E48D-4429-8D73-0DC10E66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5479-20CC-41CA-83CB-24A25490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33FC-B483-498C-89BA-774C1417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6697-C36F-49D8-91EA-7AD32CBD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CDB6C-C17B-45B9-86E4-E6BE842476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