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98246"/>
        <c:axId val="5665306"/>
      </c:barChart>
      <c:catAx>
        <c:axId val="63998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5306"/>
        <c:crosses val="autoZero"/>
        <c:auto val="1"/>
        <c:lblAlgn val="ctr"/>
        <c:lblOffset val="100"/>
        <c:noMultiLvlLbl val="0"/>
      </c:catAx>
      <c:valAx>
        <c:axId val="5665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98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FA1-C6E3-4876-BF56-A0D5866B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0BF-94CA-498A-94BF-A938E830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653-9780-4DC2-BEB3-B92A47D8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229-731A-4C10-85B7-E15FE558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9AD-4A13-48DD-9062-59446C4E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82D-D1F6-4A27-99C6-298ADB85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C78-9BC8-40FA-93EF-09583173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54A-309C-4BBA-846A-DAFD4349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ABD-5CA2-4624-BBC9-802F386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03E-6B93-465A-A7C5-BF8014A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7EE-2BA1-46FA-88A6-FE65FB1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3A5-3929-4C69-9F82-07A2DF96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A0830-60DD-4EB5-BBD3-9917046E18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