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49704"/>
        <c:axId val="8758546"/>
      </c:barChart>
      <c:catAx>
        <c:axId val="75849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8546"/>
        <c:crosses val="autoZero"/>
        <c:auto val="1"/>
        <c:lblAlgn val="ctr"/>
        <c:lblOffset val="100"/>
        <c:noMultiLvlLbl val="0"/>
      </c:catAx>
      <c:valAx>
        <c:axId val="8758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49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288-7265-4695-BC9E-EE8B9A40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A3E-FAED-4A13-AAD2-4E2D6682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B6E-5A52-4590-AAF6-244D6B1A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802-6F11-4ABD-958E-398EB28F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524-0870-4332-8A31-9733DEA8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27F-897B-45E2-B849-64F19015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7D4-1C79-4528-B008-00FE6262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0EC-E55A-462E-88F2-254E71EB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90F-752C-4175-8E29-FC87B387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D70-DA42-4AA6-81E4-A336EBC4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CD3-010D-4442-A40A-B257BA8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4B9-C9F9-4BC2-ACF8-C501DF2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1F9E9-768F-4094-9E56-914391BB91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