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85449"/>
        <c:axId val="5816642"/>
      </c:barChart>
      <c:catAx>
        <c:axId val="28385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6642"/>
        <c:crosses val="autoZero"/>
        <c:auto val="1"/>
        <c:lblAlgn val="ctr"/>
        <c:lblOffset val="100"/>
        <c:noMultiLvlLbl val="0"/>
      </c:catAx>
      <c:valAx>
        <c:axId val="5816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85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967-9EDB-4009-ADB1-A91E9BDD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16F-AEB2-46C5-868A-AD6D23DF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257-9234-4DE0-8B0D-604EF713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3FC-02D3-42EF-96C9-F7E3FE73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62F-A30B-41EA-BF9B-8F16282A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BE0-07AB-41B8-8B22-3BC0B555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D2E-5EA2-4114-91EC-F22EFEFF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427-7F9B-4C9D-9BAF-F3DF217B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0EE-C62D-4C48-BC3A-A3E3E035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E65-F202-439F-9557-BD2B78AF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0A4-2306-4CF5-B8DC-5078240A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6B7-1B5B-47D7-8DE7-8A94EF2E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353B4-1313-4CB8-80EB-F750FF2265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