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46786"/>
        <c:axId val="46381543"/>
      </c:barChart>
      <c:catAx>
        <c:axId val="56846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81543"/>
        <c:crosses val="autoZero"/>
        <c:auto val="1"/>
        <c:lblAlgn val="ctr"/>
        <c:lblOffset val="100"/>
        <c:noMultiLvlLbl val="0"/>
      </c:catAx>
      <c:valAx>
        <c:axId val="46381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46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23C-598C-4AE0-AC45-C8DA0230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DCE-5FE0-41D2-926B-CE296D34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8D3-F08B-46E6-AD4C-11F5D369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EC5-31FA-4943-BD09-863C5339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ED6-BFA8-494D-B540-C1A590C2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CF8-F2D4-4CD7-891A-D9F272A8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0DB-D9E1-4697-B536-6EA6B6B3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C8A-2BFF-4D66-A821-71230DE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D4A-8658-439E-B1EE-73CF0EFF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2EB-EEE7-4F59-A062-65E52ED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C8F-D653-4AC9-A775-9C1727C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B84-D527-4A3A-9ECF-58C59B5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BE821-AB24-4BE8-8FEA-ECFAD8C7BF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