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683404"/>
        <c:axId val="36076135"/>
      </c:barChart>
      <c:catAx>
        <c:axId val="706834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76135"/>
        <c:crosses val="autoZero"/>
        <c:auto val="1"/>
        <c:lblAlgn val="ctr"/>
        <c:lblOffset val="100"/>
        <c:noMultiLvlLbl val="0"/>
      </c:catAx>
      <c:valAx>
        <c:axId val="360761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834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CFF4-856B-454A-8E1B-12F50A58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FF77-7E15-4BDB-A17E-4945BA91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8B3C-72EA-4524-A41A-7240E033C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7BDD-7935-4012-A73E-8049F85EB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6A57-B712-4D73-B8D4-3E610C66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C75A-282E-4267-AC78-DF7B9982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975C-63B4-4D6C-96B1-33AA3107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7B79-E29C-4A1C-9553-1C95299D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C7E2-821D-4EF6-804F-048EB254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3898-A61A-4D0E-9142-18EB94DA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3150-7E4C-4BC5-ACD8-F9BB48A0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65E4-73E9-4DF5-9840-C41C5B7C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8F497-800C-416C-9226-1683533F94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