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04961"/>
        <c:axId val="32142585"/>
      </c:barChart>
      <c:catAx>
        <c:axId val="33104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2585"/>
        <c:crosses val="autoZero"/>
        <c:auto val="1"/>
        <c:lblAlgn val="ctr"/>
        <c:lblOffset val="100"/>
        <c:noMultiLvlLbl val="0"/>
      </c:catAx>
      <c:valAx>
        <c:axId val="32142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04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BE6-57FF-452E-8575-7590CF30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969-27DC-491C-A3D9-FCCEC84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E81-112E-40DF-81D1-C487C492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F6C-98DF-4EF4-8B5F-E58E6AFF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ED2-F3DD-4A0C-B3A9-2502215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6E1-EB3C-4BEE-B8B0-E870202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13A-EF0C-4906-B2DF-4C2DDD6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3D8-D637-44DF-9F1B-5F0CEBE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00A-E1A7-45D3-99BE-FB9A1DA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8E8-2999-48BF-B578-0760622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565-193B-4D00-BC3D-9928B0F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42B-029B-4F5F-8DDF-C348D54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5C2B-7423-42EE-A50B-E75119B8E8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