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405317"/>
        <c:axId val="91038713"/>
      </c:barChart>
      <c:catAx>
        <c:axId val="304053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38713"/>
        <c:crosses val="autoZero"/>
        <c:auto val="1"/>
        <c:lblAlgn val="ctr"/>
        <c:lblOffset val="100"/>
        <c:noMultiLvlLbl val="0"/>
      </c:catAx>
      <c:valAx>
        <c:axId val="910387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053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DAF4-6D24-44DD-9B39-C71080CB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E3FE-0C4B-41EF-B06D-36A453A9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E4EC-1ED1-4238-A3BF-E77328DEB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43A9-7E29-4DCD-B402-C54C88D1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CDF6-185A-41F5-8592-C053FDFE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A6FE-3C72-4222-85C9-6BCFF062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62A3-8CBD-4B36-9BF8-87E982D5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A0FA-34E3-4398-AD3B-EFAF48E9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EAB2-6709-4370-9AC3-3AFA9566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72A9-ABF2-42FA-9E4F-C52310C6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E477-C3D7-4B35-B1D2-294900D6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9977-DC3B-4176-8336-91640F08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AB1F9-3319-415E-AD2A-25404627B1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