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150597"/>
        <c:axId val="96363246"/>
      </c:barChart>
      <c:catAx>
        <c:axId val="515059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363246"/>
        <c:crosses val="autoZero"/>
        <c:auto val="1"/>
        <c:lblAlgn val="ctr"/>
        <c:lblOffset val="100"/>
        <c:noMultiLvlLbl val="0"/>
      </c:catAx>
      <c:valAx>
        <c:axId val="9636324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15059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56311-5376-4A0E-ACCA-0A0D38AAF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8497C-1E21-4BDF-AF87-B8E349821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838E9-F746-406D-95D8-DB88A6C4D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FBF16-CBC9-4077-B36E-FE056A61C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F96B4-616F-4FF8-8B4C-9130B8CC3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28B63-98F8-4922-A4DA-3D7E2309F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6D8D9-1ACE-4A09-BFDB-7F4C56F93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52E7A-6B05-4DCF-AFD4-5B77B597F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23DB6-6808-4C34-81C4-41F79CFD4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0FA30-DEB2-483A-A35B-5D9B76C32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89FBA-95F3-450A-95CA-83DBC490B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49496-FE9E-4498-9197-F44A9816B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D04B0C-38CC-4CF3-AD6F-1EDBD22C793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