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85686"/>
        <c:axId val="11295004"/>
      </c:barChart>
      <c:catAx>
        <c:axId val="88985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95004"/>
        <c:crosses val="autoZero"/>
        <c:auto val="1"/>
        <c:lblAlgn val="ctr"/>
        <c:lblOffset val="100"/>
        <c:noMultiLvlLbl val="0"/>
      </c:catAx>
      <c:valAx>
        <c:axId val="11295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85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004-B8A8-4D09-8CD1-7EBCEC44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2758-BEF9-4011-B75C-2615F1B5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5D2-00EA-4764-BE92-B7A4AD6F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3648-D463-4E2A-8125-5068D46C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FA02-1C7F-46B9-977E-FEC82B6F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3D3-090D-45E2-BAE2-7C2BA5E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6FAB-72A3-4DE5-8F8C-45C60CAC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D548-7C63-4D8D-826D-336A178C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AF9-7E40-4D6B-944B-A968DAA8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C8AD-4831-4E3D-942B-68941E2D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38C1-38A1-4D8E-9AE3-D4F89128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C0A-EA1F-4E31-AF44-A34507CF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1B391-2CB4-4591-9E47-CBED2F9441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