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45"/>
        <c:axId val="34304354"/>
      </c:barChart>
      <c:catAx>
        <c:axId val="93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04354"/>
        <c:crosses val="autoZero"/>
        <c:auto val="1"/>
        <c:lblAlgn val="ctr"/>
        <c:lblOffset val="100"/>
        <c:noMultiLvlLbl val="0"/>
      </c:catAx>
      <c:valAx>
        <c:axId val="34304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739-4541-46B5-BF2C-A134457A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501-746B-41A5-91DC-2E19C851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1A0-3584-4B89-A083-9943CB5F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5E3-4E5A-408A-B97B-529F0A4D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C72-475B-4BCF-AE5D-1F4B2CFD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8C8-5FFE-4077-A0E6-A6DD67AE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35D-02CB-4D25-8261-96A0B1A7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F09-0DB8-4B5C-85C3-CBE5BB5D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6B3-045A-4EF2-8A15-DFED26AB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C9B-FB22-46DA-8110-FB146F4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8E3-C0BC-459D-8643-F9A588B1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F72-99AB-4EFD-8E2E-B12D86D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1B980-22B6-4BE5-A629-94F816FBD3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