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053382"/>
        <c:axId val="32553322"/>
      </c:barChart>
      <c:catAx>
        <c:axId val="21053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53322"/>
        <c:crosses val="autoZero"/>
        <c:auto val="1"/>
        <c:lblAlgn val="ctr"/>
        <c:lblOffset val="100"/>
        <c:noMultiLvlLbl val="0"/>
      </c:catAx>
      <c:valAx>
        <c:axId val="325533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53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7EE5-4435-4D9B-ACA8-A8DFA547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A2F-0BEA-4443-8811-A5101935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7C6-ADA8-42B4-82CB-7AAF3C9A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0306-616F-41FA-B54C-A95A1791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85E-D9CC-4DF2-9FB0-7F4650C4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970-1299-4212-ADBE-4DC73681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CC5-1308-4B4E-92E7-81E1AFEE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ADF-865F-4C2B-A003-FAC89835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44B7-7280-4BD6-89D2-7A142BBB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3DB-5420-4EC5-91E9-B0AA4FE7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9045-102E-4DDB-9FAF-A9E429F6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E68-4F63-4FA6-B32F-8737C86C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DCFBD-BE9F-4DD9-981A-9B9D5DE5C8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