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28301"/>
        <c:axId val="34811293"/>
      </c:barChart>
      <c:catAx>
        <c:axId val="78428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11293"/>
        <c:crosses val="autoZero"/>
        <c:auto val="1"/>
        <c:lblAlgn val="ctr"/>
        <c:lblOffset val="100"/>
        <c:noMultiLvlLbl val="0"/>
      </c:catAx>
      <c:valAx>
        <c:axId val="34811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28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592-A287-47C6-B382-FAFB8F07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CC2-744B-46CB-B5A3-1F31A550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C3B5-350A-4378-BE6D-1F2017CA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F42-3A65-4626-B88F-DB9F9E05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577-9318-4E05-AE53-CE043F40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244-BE50-4771-A394-19B77E59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B90-FDEF-4C17-A7B0-4D6D265D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D1A-878B-443F-9404-70563F82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B3F-BC96-4C5A-805A-089CEAEA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001-0BCF-4BD6-8CBE-483835C0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B18-7749-4AD4-8D22-E275DF34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945B-9F39-4648-AA0E-FE3560CB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C9187-5DE3-4673-AC9D-5D91E21B64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