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79685"/>
        <c:axId val="20129340"/>
      </c:barChart>
      <c:catAx>
        <c:axId val="83579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29340"/>
        <c:crosses val="autoZero"/>
        <c:auto val="1"/>
        <c:lblAlgn val="ctr"/>
        <c:lblOffset val="100"/>
        <c:noMultiLvlLbl val="0"/>
      </c:catAx>
      <c:valAx>
        <c:axId val="20129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79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F32-FE2F-4AB6-9CF6-0D95F94D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FA5-725F-4ADD-BB9A-416C6BFB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297-D524-4DED-AFA0-2F772EF8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044-0525-45C5-8224-78C4DFA7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675-1423-42BA-A2E6-6B205E88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133-901D-465F-9C42-B1E5ED2B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5F9-27F5-4431-B533-4C432BF4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C01-7C1D-4A70-A3E1-A2B2B631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42B-BB1B-4EDC-BE3A-05FFA188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C33-D471-4638-8B08-F0377E90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C1A-4793-4849-8C24-CC5C91A8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A9D-00E2-48C6-A6D7-1E406D26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C04AA-8196-4873-A766-FB14001420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