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24509"/>
        <c:axId val="90614152"/>
      </c:barChart>
      <c:catAx>
        <c:axId val="47524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14152"/>
        <c:crosses val="autoZero"/>
        <c:auto val="1"/>
        <c:lblAlgn val="ctr"/>
        <c:lblOffset val="100"/>
        <c:noMultiLvlLbl val="0"/>
      </c:catAx>
      <c:valAx>
        <c:axId val="90614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24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627-8458-47C0-8B4C-4CF2F5D7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44F-E8C5-4F43-8A70-3C238852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4EE-F24E-4990-AA12-DD7DCE62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9DA-311B-44ED-8A45-E2183E2C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403-82F1-4FEC-807B-BBFC5114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042-BCA6-49FE-BCB9-57CA8BA3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306-57F9-4B75-8B0C-58120874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11C-862A-4ABC-B197-75B15B2B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A90-319A-4877-89C8-C0595C5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379-98CB-4C74-8AC6-8B1B1DE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0C1-CCD9-4624-8E96-A152DDE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41A-F629-452B-83AD-4B3F618F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1E35C-63E4-4219-BF9E-D3D073D031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