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08805"/>
        <c:axId val="38195724"/>
      </c:barChart>
      <c:catAx>
        <c:axId val="69708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95724"/>
        <c:crosses val="autoZero"/>
        <c:auto val="1"/>
        <c:lblAlgn val="ctr"/>
        <c:lblOffset val="100"/>
        <c:noMultiLvlLbl val="0"/>
      </c:catAx>
      <c:valAx>
        <c:axId val="38195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08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75F-9D5F-4FC6-A55D-5B7FC0FB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01EA-84EE-4D32-AE0F-BC62E7FB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8DE-40FB-420E-84EC-716874A1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7BA-5A0D-4EB0-B594-47625622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654-BDF4-41F0-9605-510EEDDF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D16-28B7-4398-8A4E-A010FE71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24C-2437-43CC-ACA3-4DA9ADA4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359-91E8-4E9D-BB9C-AE86A752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1F6-2202-43D3-9D7A-120E4876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5D1-B351-48A3-8722-85DA9204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049-656C-48AB-81EC-B2C1C8C2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16B-784B-4AC5-840D-5AED446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4C6D2-A024-4CCD-885F-3C56D2BFBD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