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512845"/>
        <c:axId val="53962978"/>
      </c:barChart>
      <c:catAx>
        <c:axId val="115128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962978"/>
        <c:crosses val="autoZero"/>
        <c:auto val="1"/>
        <c:lblAlgn val="ctr"/>
        <c:lblOffset val="100"/>
        <c:noMultiLvlLbl val="0"/>
      </c:catAx>
      <c:valAx>
        <c:axId val="539629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128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8E76-4209-49AC-AA4A-C03958F8E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D654-81BF-4C24-9CAD-D820F403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1FE2-FE2C-49EC-831B-5D21096E7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342C-DA5C-4C93-8149-9CBF91E8E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0C3E-BC73-47A0-8352-29480D17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DE7B-BB2F-4ECB-B3CD-60E6D3B3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24AF-A212-410D-87EC-6B5EE398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4EDD-F495-44C6-82D9-F7941208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91EC-2F32-499B-880D-52FDB91B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E565-ACEB-42A4-9A07-7E089951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6190-9E9E-4B63-8EA3-38200B1A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669E-D04B-4C4A-8F21-154CB554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017AA-67C4-4AAB-9F83-8F9523F7C7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