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87876"/>
        <c:axId val="7460522"/>
      </c:barChart>
      <c:catAx>
        <c:axId val="20287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522"/>
        <c:crosses val="autoZero"/>
        <c:auto val="1"/>
        <c:lblAlgn val="ctr"/>
        <c:lblOffset val="100"/>
        <c:noMultiLvlLbl val="0"/>
      </c:catAx>
      <c:valAx>
        <c:axId val="7460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7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1BC-AE74-48DA-B7AC-11C49FE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709-31FA-4AA4-8F93-93F399CE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33E-7D03-4E1D-9B87-1C2A382B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C3B-E1F7-420C-BBDA-FFDD33F7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651-42D4-4D10-9FEC-774F1551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C13-FE51-43C6-A014-BE80A0C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21F-10D5-41B7-99D0-D54E341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7A8-49B3-4812-A012-C0D9A3DD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053-2B6C-4A05-BB4D-62AADC8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CA1-E1B8-4809-BF94-6BB21CA8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CE9-5B97-4DD7-8B9A-F33F6BE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D97-2AD3-4DA2-9C2A-37E186E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8643-F9F3-460C-B81C-87F9596D8C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