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6443"/>
        <c:axId val="7778175"/>
      </c:barChart>
      <c:catAx>
        <c:axId val="5276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8175"/>
        <c:crosses val="autoZero"/>
        <c:auto val="1"/>
        <c:lblAlgn val="ctr"/>
        <c:lblOffset val="100"/>
        <c:noMultiLvlLbl val="0"/>
      </c:catAx>
      <c:valAx>
        <c:axId val="7778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6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C8E-8B7F-479C-9054-881F25F9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32E-B2F1-4593-8432-D0346637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D29-CA94-4E34-8C25-EFA16DAA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193-D7FB-475A-BDDA-54A75B76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C0C-5EAF-45D4-837F-A8839181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0C1-4F3A-4F1D-A60C-87162BA8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15E-D3BE-4C9A-9410-A3844CB2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659-5D64-4E5B-85F2-125FB8A0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66D-E015-4595-9523-0835710C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236-6A77-4CEE-AD28-921CA5EF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680-4261-4455-8E50-E53A53CE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8C0-6DBF-4D58-919A-AA34D53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3F515-CBD4-4EF9-8DDE-5E87CD2136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