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78440"/>
        <c:axId val="59490765"/>
      </c:barChart>
      <c:catAx>
        <c:axId val="15678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90765"/>
        <c:crosses val="autoZero"/>
        <c:auto val="1"/>
        <c:lblAlgn val="ctr"/>
        <c:lblOffset val="100"/>
        <c:noMultiLvlLbl val="0"/>
      </c:catAx>
      <c:valAx>
        <c:axId val="59490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78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160-D7A2-4609-9E8F-EF819339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25E-046C-432A-BE3A-2057B697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99D-AAE0-4FC6-BA94-5F7E2DC7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4DF-F3EF-4586-A755-75C05FF8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BB1-5D80-4AF7-85FC-982C6D88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BED-5F88-4C17-8827-C58FBF38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58A-8201-44D7-8F43-4B67967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211-E550-4FB1-8F05-D41CDB68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8F7-2FD1-4016-9836-28555619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B2E-A60C-40E5-A718-CAD8911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771-AA38-4589-B527-D136B55B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27A-FA28-49A1-AD01-1C0B79F5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DA8D3-6457-4EB8-A86F-12E1C3E4B5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