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27945"/>
        <c:axId val="3530145"/>
      </c:barChart>
      <c:catAx>
        <c:axId val="14227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0145"/>
        <c:crosses val="autoZero"/>
        <c:auto val="1"/>
        <c:lblAlgn val="ctr"/>
        <c:lblOffset val="100"/>
        <c:noMultiLvlLbl val="0"/>
      </c:catAx>
      <c:valAx>
        <c:axId val="3530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27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007-EE22-4DCB-BB9A-B7869790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684-65FA-4BD9-A9CF-1F255145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C25-9B9E-44EE-8CF3-3B4BE470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11C-B436-4897-9EAE-81E7E7B7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D56-17F9-468D-885D-C88887EB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AAB-10FD-4EF4-AB4F-60C27101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F50-4BE5-4CFC-819B-5471A41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7A9-8145-4F12-95AA-0AAA3CC8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085-860D-482A-9A3B-59E30DF0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E66-D196-4597-B541-DFCFD97B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7C5-7892-45DC-9AE5-21B3471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457-0AF2-460D-8913-BF78E54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94F0B-69B3-4E2E-9C4C-FB1EBE2256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