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40080"/>
        <c:axId val="75448630"/>
      </c:barChart>
      <c:catAx>
        <c:axId val="651400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48630"/>
        <c:crosses val="autoZero"/>
        <c:auto val="1"/>
        <c:lblAlgn val="ctr"/>
        <c:lblOffset val="100"/>
        <c:noMultiLvlLbl val="0"/>
      </c:catAx>
      <c:valAx>
        <c:axId val="754486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400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A522-C506-412E-84AC-A32AB4EC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3E9A-F61F-496E-9711-8D8CB382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BBDC-BB4C-4D5D-AB53-0E82CD54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DA0A-A486-4694-927F-2373F355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881-AC18-43E9-9FA9-08C3F4E4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6F2-8952-4EA1-AD53-C6699252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8D97-DD5E-4804-B482-1BF15B69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8D1A-54F4-428D-9E4A-53018A25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A202-8B39-4AC9-AD42-404DC0C9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5D6C-AAF6-4E2B-A958-54EA6FA4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BB7F-CFA0-48A4-93F1-24C4BB3C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047C-A894-4DC0-8B29-2EA1C27F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D831C-8118-49CD-A745-EB85A75FEC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