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8006318"/>
        <c:axId val="3867180"/>
      </c:barChart>
      <c:catAx>
        <c:axId val="2800631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67180"/>
        <c:crosses val="autoZero"/>
        <c:auto val="1"/>
        <c:lblAlgn val="ctr"/>
        <c:lblOffset val="100"/>
        <c:noMultiLvlLbl val="0"/>
      </c:catAx>
      <c:valAx>
        <c:axId val="386718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00631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BD451-198F-4597-AEC3-86ECB25FC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FE6F7-CAA3-49E3-A796-CC931FB2E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1CE9D-F35B-4208-967A-FAB294552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A81D9-DBD7-4A08-9BFD-1FDF5B67B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10A6D-530B-4F34-A8C2-88390A457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B21EF-665A-4F5E-885D-C7B883B56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ECF2D-BE97-443D-B6FA-A1FF0D2BA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124AE-0C88-431C-AE8C-7F1626B16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F1552-D443-43FF-B880-A140423C7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A653F-69D2-47C5-B6DD-34D2B0F30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419DC-E40D-4BAD-BC38-CCB427129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0F58C-4CB3-44CE-BEFE-51007C8CB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83423B-ADAD-4323-A4D2-1C24EEF8160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