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57763"/>
        <c:axId val="39396002"/>
      </c:barChart>
      <c:catAx>
        <c:axId val="79857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96002"/>
        <c:crosses val="autoZero"/>
        <c:auto val="1"/>
        <c:lblAlgn val="ctr"/>
        <c:lblOffset val="100"/>
        <c:noMultiLvlLbl val="0"/>
      </c:catAx>
      <c:valAx>
        <c:axId val="39396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57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BA7-9F32-4ABD-9A83-69602969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09C-E307-4D71-8422-7F136D13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C57-7398-49F9-A355-24924C0E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BA1-1A25-42D9-8234-A8432782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AF6-B13D-4CA3-A916-9BCE4E32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44F-BB77-44C0-A155-CD24A15E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35D-C2BB-4B4F-A022-F71A4681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31D-820B-4145-9524-4B04B4E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51A-C245-4840-8AD6-E0E25179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90D-D247-466E-9171-782D52DE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968-E030-4711-A4D9-6B1A934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949-1C6E-4703-97A0-D2E1A9EC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E551B-EA9A-4592-BECB-A02DEF21DA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