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23932"/>
        <c:axId val="17702848"/>
      </c:barChart>
      <c:catAx>
        <c:axId val="40223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2848"/>
        <c:crosses val="autoZero"/>
        <c:auto val="1"/>
        <c:lblAlgn val="ctr"/>
        <c:lblOffset val="100"/>
        <c:noMultiLvlLbl val="0"/>
      </c:catAx>
      <c:valAx>
        <c:axId val="17702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3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184-7CB0-4C12-BB9B-2DB64F4D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A9B-3F95-44A6-9084-17B7D80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27C-BAD4-4C69-8474-67059B94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674-9AF8-467A-ACB2-0F032CE3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371-74C4-47DA-8BAC-602C56A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8D5-9DB5-4824-9BA0-EE7F2368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642-0FDA-466E-8453-07CC3D5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4A8-555C-408A-99DD-8593D19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DD7-F0F1-4CEC-92EC-0EC4D4BA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C5E-57B5-4B10-AB53-A330DFC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3FF-3970-4080-ABD1-3E929F5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C2E-A05E-4C63-B092-DB1A704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45B1D-ACA8-4696-9E7D-17B5E2BA6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