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15329"/>
        <c:axId val="53466305"/>
      </c:barChart>
      <c:catAx>
        <c:axId val="66815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6305"/>
        <c:crosses val="autoZero"/>
        <c:auto val="1"/>
        <c:lblAlgn val="ctr"/>
        <c:lblOffset val="100"/>
        <c:noMultiLvlLbl val="0"/>
      </c:catAx>
      <c:valAx>
        <c:axId val="53466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15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7A1-4717-4783-8430-18ACB608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4CE-6545-48A5-8336-F0251442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4EE-D4E5-4EF5-A3CE-225D01C7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BAB-C917-4CC8-9DB0-5B6E53B6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315-6B11-4CCC-8760-ED86E140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471-0681-4A16-959C-6E641C63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D64-EF0B-45B0-AF9B-F7CCF8E7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EAB-8018-4ACA-8F5F-C20F325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393-6710-41B5-B7B2-9A8310F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91A-78D4-463D-912E-01D1412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DD0-C16D-408B-A719-DF83343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E6F-2222-4873-B237-28AAFF8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DB0B0-BD15-4CB7-BD0B-FEC7A9F8CF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