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57877"/>
        <c:axId val="89479021"/>
      </c:barChart>
      <c:catAx>
        <c:axId val="20057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79021"/>
        <c:crosses val="autoZero"/>
        <c:auto val="1"/>
        <c:lblAlgn val="ctr"/>
        <c:lblOffset val="100"/>
        <c:noMultiLvlLbl val="0"/>
      </c:catAx>
      <c:valAx>
        <c:axId val="89479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57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42C-E97B-484E-96E4-9865FD02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FD4-7565-444D-9D9D-74FD9396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8DD-7495-4AB5-BAE5-55D6BD7E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982F-4793-45F9-B35F-880C183D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671C-E0D9-4D66-B9CC-A542105F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9B51-3FFA-46AF-9345-22A9CC56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99A-E96E-48E7-9453-07979BCE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AB7-8801-4086-822B-2F15DB33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DA7-88DE-478A-B036-70576F82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ACB-3DE9-476A-AFFC-345D066C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E90F-20B3-4108-AC5C-3A1DCDD3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138-A15C-4A03-AE3C-A487F045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4F292-E0E5-45AB-A43B-5B2E926BE8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