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99960"/>
        <c:axId val="82075083"/>
      </c:barChart>
      <c:catAx>
        <c:axId val="71599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5083"/>
        <c:crosses val="autoZero"/>
        <c:auto val="1"/>
        <c:lblAlgn val="ctr"/>
        <c:lblOffset val="100"/>
        <c:noMultiLvlLbl val="0"/>
      </c:catAx>
      <c:valAx>
        <c:axId val="82075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99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ABC-48C4-41C7-8D69-4C0D3549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A0E-DAC8-4B73-BB12-403CB083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486-3322-4C6D-833F-8E82A1FB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C77-F667-4890-9F8A-FFDDB80D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7E8-14C1-4C1D-AD4D-B86D935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D00-4AE1-4853-849E-0ED6D6FF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159-B647-4FC7-9906-E60A4071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B69-7B32-4CAA-B06A-C60375D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7DF-EE7B-4141-ADC6-0A7B63B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4AD-C3F0-4A8F-8945-3285F68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DBC-E2F1-4A64-87F2-9EE6C46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346-6E2D-4CA3-9552-7DFB4FC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A72A-F377-4235-9F63-3DBCA9EB20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