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30671"/>
        <c:axId val="58779254"/>
      </c:barChart>
      <c:catAx>
        <c:axId val="94830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79254"/>
        <c:crosses val="autoZero"/>
        <c:auto val="1"/>
        <c:lblAlgn val="ctr"/>
        <c:lblOffset val="100"/>
        <c:noMultiLvlLbl val="0"/>
      </c:catAx>
      <c:valAx>
        <c:axId val="58779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30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18F-3136-4E00-833E-EDEEFC6B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790-8C13-490D-B657-4AF15A42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35B-490B-4447-B6AE-10CC2578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0B5-919A-46BB-BEAA-F6C231D8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DD0-3AC2-49D2-8B3D-1E2D9908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922-DDCA-48F4-AAA3-D54BE041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C85-648B-424D-90E7-CD665F6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B1B-5991-44C1-9925-C2D25632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2FA-3EF1-4279-9609-A5929BCB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E9A-4031-480F-BF88-69726D9E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E15-EC27-4F41-A18D-1FFA577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EC0-A3AE-4BC0-A8F6-8CA7DFAE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818A0-FC87-42BE-BD04-249A5443B6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