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54950"/>
        <c:axId val="98530733"/>
      </c:barChart>
      <c:catAx>
        <c:axId val="60549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530733"/>
        <c:crosses val="autoZero"/>
        <c:auto val="1"/>
        <c:lblAlgn val="ctr"/>
        <c:lblOffset val="100"/>
        <c:noMultiLvlLbl val="0"/>
      </c:catAx>
      <c:valAx>
        <c:axId val="985307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549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D02F-69CF-4900-9CB6-59FD9C959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F87F-2FA2-463A-BDF3-7937E3C48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CD2C-1D10-4FC4-9664-B790544EE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8CB6-AB48-48D6-81CB-4661ED86D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25A2-6356-4CDC-AF02-48ECCAFB1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7711-7F3D-4D5F-9C76-6736CB612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6FB9-6030-4D46-A900-4C491F059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047C-B1A7-45BA-9FF4-B30F4EE62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2163-EAF8-45DD-94AA-B4C0540CA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B33C-71D6-4304-A566-0465CAE3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8A11-A23B-45F9-A147-5E39AEE9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0F28-8D5A-4875-9869-267BE1CC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A63ADD-1816-4B4B-82F0-B2A7C34F568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